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E50-C529-4A3D-B082-1395D654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FF4-D591-49CE-8400-6CBB8093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2A3-4C79-42C2-84AE-DFE1AFAF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9D5-2E7F-406B-A4DA-5AF46343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8985-E80B-4C81-B7F1-FFD8E067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5B6-A42A-421C-8998-8B680D76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4EA7-27F1-4B58-8D78-E15B3240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0E93-B615-4412-B5FA-51D78648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AAF4-0A4F-44CF-A7F1-23C8C7DA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7010-21B0-47DE-87DD-169E84F2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AD2B-5F95-4000-8B7C-E34B728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BF2-BD94-4813-ABE9-83FAC25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7042-B624-4D25-971B-8CE478F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7D5-D93E-4810-9173-F2D5D59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3F08-C20E-40AC-9901-7B932A27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F09-96C3-4940-B5E4-6BBCFE20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5165-6BBD-419B-B257-CDC5ABE3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99A6-45ED-447E-B673-BF1EB168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8B2C-76EF-4502-816F-2C21E51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1759-DD6F-4B45-B039-0B151B7C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16E8-8A6E-4C02-B491-212AA56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3AA4-B678-4817-831F-29D4FEFE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47A-D81C-4835-8E36-75E1D572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ABA0-212B-4030-81BB-BB6E8A3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1FC9-8D51-4DF7-85C1-2D22761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95D7-922C-4FD2-96AB-9793C7F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C6C1-7D37-4C74-B9B4-D3DDB23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EC04-F880-4D16-8385-76C350A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3C73-E044-407E-B43C-93C00588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F42B-264A-492A-AF11-F9AC0068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7F11-88B6-45D4-84A6-2FDCE5B2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BB62-0FB4-478E-B8B2-AB75C020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CCD2-866A-4752-86A0-F7464BAC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1B1-FFE5-474C-A3C6-4210B016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C535-394F-4353-9C39-812BF4E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2D04-6261-4416-B53A-ADB0F4B2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A941-2B55-422F-B46A-D70FA9A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82949-601C-467A-85D4-374B9A12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A3E6-4485-4E58-AE38-2ACE60D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A42B-6E67-4488-9B50-D0D8E6B3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0C8F-7A8C-4471-94E5-0F3BF74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5429-3DB9-4A80-BB34-3001DAF4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4ED8-E708-4F15-844A-2D43215B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0C032-E495-4EFB-868E-9F3BCF01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D0C-EE0E-4427-9B99-AFAC4230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1C11-FE47-4DF8-8724-5F1C119A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C473-0A33-413C-8F99-A86EB969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2CCA-2D42-49F5-BCB6-C47026EE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0113-CAB8-42A2-88AD-623C90C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CF3C-891D-42E5-AC92-2E1766BD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0739-7D33-4FD0-85CB-DE625C1A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8DE5-CC4D-499B-A9B0-E8B38A8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8CBEA-388D-4CFC-998B-156367D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CE43-DB85-4420-AA6D-77CED538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B91F-C712-49CB-8BA3-1483813B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975-A87B-4060-8D62-35101A28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5D32-40A0-48FB-8F55-C9EB1DD6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7A32-9F62-4F0F-A16A-B3A4E931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23DC-A562-4518-8E0D-FAE648CE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6894-E191-46E7-9641-893E1BF5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5C74-1B4F-4C7D-BECC-19AE2C37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68E1A-C0AA-40A9-BE35-2322D303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C0F8-F5E6-4811-9C1D-BC4FB85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3ED9E-5F12-4AD8-9B25-B56858F7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68F1-FBD9-4824-9577-8FDC1F5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FA07-D59D-431E-AF88-495313D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9B8-C44C-426A-9801-C967812E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03F39-DA69-4BBC-B2C5-2261F1E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F3EF9-4652-49A2-BCBF-9A4F96CC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0022-149B-43AC-B179-9099680A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6DE5-C9B8-4BAD-AB21-DBBFDA13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684D6-A7F0-4D90-BBDD-9EEC2578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6693-9038-4DC4-BF60-51E88B29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C6B5-5C56-4555-A3DD-206A31F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F09C7-843D-43FE-9BE9-BDA926B1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CEB9A-4016-402F-8E53-81D1D3EB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F0089-C59E-4967-85DD-FCF72E89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829-C8C9-40B2-AF40-604A694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F291-FA3E-47D7-8ACC-3F5AE8C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952D6-EFE2-480F-A55E-2901A42C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307BA-A8D7-4272-A4D7-38F345E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BE9DB-35F3-446F-9B03-E779C37A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09F0-34BE-4785-BFBD-960ABF3E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1CEDC-DEA8-4E98-A2B4-F5AADD89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AD410-2694-4B60-A0DE-5996720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EEAA-5224-4118-99E7-F0D4CF2A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5186C-B670-4379-A285-762A41BB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FB8F1-18AB-4A5D-8340-360E4063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B2B-BA77-4227-B05E-7E580570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677DB-9E67-4300-BE51-396172C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C39B-BD94-412E-AD80-BF0FD224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69EB-3063-4E19-A42B-A60B78C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74FEC-E17D-4056-986F-4CA2A48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32122-2B2D-4F1C-803D-F441093E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ADE5-1FC4-4A4C-A457-BA3D8646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4E16A-88F9-4631-B9FA-25C31F8A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D00F-F277-4BAD-8140-65EE11C550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70E3-27BB-4F9F-A600-A88781C027C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A3F5-5761-4EF6-A83A-D08649BDEF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AEA-F370-43D3-9FCC-C58ED06A76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5754-988B-48FD-B784-2EB6625F89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447E-14B2-42B5-B3F4-F10F0996F4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330-978D-4770-BB2F-A6FF56DAF20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42E-D3F9-4313-A75C-D8892AB7244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257,2,&#1055;&#1083;&#1072;&#1089;&#1090;&#1080;&#1095;&#1077;&#1089;&#1082;&#1086;&#1077; &#1080;&#1089;&#1082;&#1091;&#1089;&#1089;&#1090;&#1074;&#1086;" TargetMode="External"/><Relationship Id="rId4" Type="http://schemas.openxmlformats.org/officeDocument/2006/relationships/hyperlink" Target="258,3,&#1042;&#1088;&#1077;&#1084;&#1077;&#1085;&#1085;" TargetMode="External"/><Relationship Id="rId5" Type="http://schemas.openxmlformats.org/officeDocument/2006/relationships/hyperlink" Target="259,4,&#1057;&#1083;&#1072;&#1081;&#1076; 4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47" name="Схема 3" descr="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73128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6"/>
          <p:cNvSpPr/>
          <p:nvPr/>
        </p:nvSpPr>
        <p:spPr>
          <a:xfrm rot="1791600">
            <a:off x="214200" y="3286080"/>
            <a:ext cx="4000680" cy="571680"/>
          </a:xfrm>
          <a:prstGeom prst="rect">
            <a:avLst/>
          </a:prstGeom>
          <a:solidFill>
            <a:srgbClr val="0d0d0d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пластическо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2857680" y="5429160"/>
            <a:ext cx="3286080" cy="571680"/>
          </a:xfrm>
          <a:prstGeom prst="rect">
            <a:avLst/>
          </a:prstGeom>
          <a:solidFill>
            <a:srgbClr val="0d0d0d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временны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Прямоугольник 8"/>
          <p:cNvSpPr/>
          <p:nvPr/>
        </p:nvSpPr>
        <p:spPr>
          <a:xfrm rot="20115000">
            <a:off x="4929120" y="3357720"/>
            <a:ext cx="4214880" cy="642960"/>
          </a:xfrm>
          <a:prstGeom prst="rect">
            <a:avLst/>
          </a:prstGeom>
          <a:solidFill>
            <a:srgbClr val="0d0d0d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синтетически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1" name="Прямая со стрелкой 11"/>
          <p:cNvCxnSpPr/>
          <p:nvPr/>
        </p:nvCxnSpPr>
        <p:spPr>
          <a:xfrm>
            <a:off x="4428000" y="1785960"/>
            <a:ext cx="72360" cy="3572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2" name="Прямая со стрелкой 12"/>
          <p:cNvCxnSpPr/>
          <p:nvPr/>
        </p:nvCxnSpPr>
        <p:spPr>
          <a:xfrm flipH="1">
            <a:off x="2580480" y="1785960"/>
            <a:ext cx="1848600" cy="16531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3" name="Прямая со стрелкой 13"/>
          <p:cNvCxnSpPr/>
          <p:nvPr/>
        </p:nvCxnSpPr>
        <p:spPr>
          <a:xfrm>
            <a:off x="4429080" y="1785600"/>
            <a:ext cx="1858320" cy="1857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00040" y="9288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то пространственные искусства, произведения имеют предметный характер, создаются путем обработки материала и существуют в реальном пространств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Схема 3" descr=""/>
          <p:cNvPicPr/>
          <p:nvPr/>
        </p:nvPicPr>
        <p:blipFill>
          <a:blip r:embed="rId2"/>
          <a:stretch/>
        </p:blipFill>
        <p:spPr>
          <a:xfrm>
            <a:off x="-19080" y="3541680"/>
            <a:ext cx="9182160" cy="3187800"/>
          </a:xfrm>
          <a:prstGeom prst="rect">
            <a:avLst/>
          </a:prstGeom>
          <a:ln w="0">
            <a:noFill/>
          </a:ln>
        </p:spPr>
      </p:pic>
      <p:sp>
        <p:nvSpPr>
          <p:cNvPr id="357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835812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72a1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8:47:47Z</dcterms:created>
  <dc:creator>Admin</dc:creator>
  <dc:description/>
  <dc:language>en-US</dc:language>
  <cp:lastModifiedBy>Admin</cp:lastModifiedBy>
  <dcterms:modified xsi:type="dcterms:W3CDTF">2009-09-23T19:20:06Z</dcterms:modified>
  <cp:revision>5</cp:revision>
  <dc:subject/>
  <dc:title>Слайд 1</dc:title>
</cp:coreProperties>
</file>